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E11-667F-4844-A0E4-4EC7D85D0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524F-9840-4ED6-9E24-486376E99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A1D8-3B73-455A-9D37-A921780ED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63E-6406-41C8-924B-AB626E0AA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DDB-A166-4946-A2D3-A0FAC715D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B089-D334-4C62-8F2E-72C8B421F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C54-8CF7-473E-A505-66E8FFC92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3D4C-CEF4-4988-91E8-6116E454C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EAD-1E01-428F-97FE-068E8CB05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EB66-F406-4B28-923A-37B7F380F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B8CE-888D-40A3-A3C7-82ABABE4F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C45-FD94-43D4-9268-ED097A605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F46A-9638-483C-ADEF-3244059C7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A8-571F-4880-8A9B-D9497097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0C5-D47A-4F29-A056-B198827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E24-8E4B-48EB-83A6-1849AB6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BED-E0D2-4690-A754-B8854BE7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F13-C0AC-4420-8663-1D54F69B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096D-C7A1-4CB7-A6D1-9FFCC20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45EF-A1AD-4622-830C-19A2370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FFB-FAFE-41DF-936A-EBE61D7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425-5A7F-45C3-A23D-3C9B0FFE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038-BDCF-460C-B42B-2F38D8F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FD8-1DD4-4BF4-93EE-F1BF9CD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E8B-972D-4C44-94EC-A6C232F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5C85-9DD1-4244-B54F-C07CA1C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BAD-4FA0-4DF6-93ED-5B848EA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0D5-5CD8-48C7-8679-004218D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F6CD-E92F-434E-AC53-AB40D0D6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1863-AD1C-4307-B079-44DCB8D9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7F68-5C71-4AF1-A109-925CCBF8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1499-A566-44B8-9A52-CBA8B8E7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3B4F-65A9-4538-8AA7-24578190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D5A7-170A-4536-8485-6808A2D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3D73-8E5B-483C-9522-2153EE8B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ACB-5A14-4150-8137-57E0DAA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197C-A8A0-4280-A13F-4C1584F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8CCA-30A8-4291-ADCA-CBB31D0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8704-02A9-4585-AC6E-35BC8AD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4AFF-6E9A-41EB-ACC1-D532CF9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A70F-9D7E-4FFA-BB7A-C373434A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AC6F-7221-47EA-83C4-81B306B0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F8E5-83E1-46D0-8E8C-C112DDCA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E4B9-0815-4095-8E1F-D506EDEF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40ED-833F-4867-9F66-B6596F3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0A97-2EAC-4363-B9C1-B212721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B5A-F9EB-4F37-877F-8302AE6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94DE-E2AD-4DC3-BBE5-EDC6D5D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C35D-4599-47F7-A063-D29AE20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B0F1-A5F2-4325-9CBE-45274F5A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CCAB-E420-4B70-AF33-EAC84A1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AC39-2176-4610-8201-8B2B6614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14DF-73CB-443D-ACFD-D56F439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F3F23-CF6F-4754-9E22-CFAB87F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EDC16-1FCA-4FDF-8C50-5D14444E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D2DA-C2B3-48F6-A16C-E158EB70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C364-15B4-460C-B116-463F21E6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769-FC88-4071-ABFD-D46941D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71FA-68D3-4B19-A8B9-9A2471D0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55AE-1A37-4EBD-8DB8-F3D10BE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19A8B-82A5-4FD6-80F3-9FCF5062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B87A-88EE-4838-A356-FB4B26E1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73DE-994A-4193-829B-FB34D86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840DC-211E-4EAB-89A0-ECC86580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A61D-8042-4AC6-9475-90C1839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E73E-04CF-451F-A2AB-CDBB1D8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8497-00FD-43D6-AED8-102DD305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C88A-8792-49AE-A935-22FA228F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615-590B-4B3F-9E72-F513BCD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DDE0-13FF-4370-80CA-9372C8D4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B97-229E-4116-8B02-60B69F9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5A3-7586-49F1-A4EF-E393D00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A5A-F7DA-4105-83C2-869018C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304-DA0E-4526-8CA0-A970F141CC0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3A5-6D4A-4BD4-900F-749288EB17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3F7-4622-4450-A1EC-56DECDE5E1E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2BAE-D649-4981-B48B-EEE285C9A8FF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242-D18D-4352-A980-9BB3ADD7735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ovember 1, 2011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a broad idea or message about life, society, or human natur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niversal them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hines a light on our common human experience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member: a subject is not the same thing as a theme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ubject of a story is what the story is about; the theme of a story is a statement, direct or implied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bou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e subjec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 against Na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 against Socie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 Individual’s Relation to a Higher Pow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dividual’s Relation to Another Individu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owing U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ing of A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assing of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ien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How do I find a theme?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theme isn’t just a topic that a story is written about—it’s how the story approaches that topic. The theme is the important area that the story explo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example: one of the themes in S.E. Hinton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Outsider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senselessness of rivalry between different “classes” of people;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her i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e importance of famil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opic is class rivalry; the story’s opinion of that topic is that rivalry is pointle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opic is family; the story’s opinion is that family is importa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were some of the most important themes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Small as an Elephan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ic definition: the events that make up a story. These events are organized in a specific way so that they take the reader “on a journey” from beginning to e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five basic elements to a standard plo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xposi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ising A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imax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alling A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solution or denoue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Straight Connector 4"/>
          <p:cNvSpPr/>
          <p:nvPr/>
        </p:nvSpPr>
        <p:spPr>
          <a:xfrm>
            <a:off x="609480" y="4495680"/>
            <a:ext cx="137160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Straight Connector 6"/>
          <p:cNvSpPr/>
          <p:nvPr/>
        </p:nvSpPr>
        <p:spPr>
          <a:xfrm flipV="1">
            <a:off x="1981080" y="1905120"/>
            <a:ext cx="2133720" cy="25905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traight Connector 8"/>
          <p:cNvSpPr/>
          <p:nvPr/>
        </p:nvSpPr>
        <p:spPr>
          <a:xfrm>
            <a:off x="4114800" y="1905120"/>
            <a:ext cx="1600200" cy="175248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5715000" y="3657600"/>
            <a:ext cx="167652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4572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12"/>
          <p:cNvSpPr/>
          <p:nvPr/>
        </p:nvSpPr>
        <p:spPr>
          <a:xfrm rot="18628200">
            <a:off x="2145240" y="2829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331956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TextBox 14"/>
          <p:cNvSpPr/>
          <p:nvPr/>
        </p:nvSpPr>
        <p:spPr>
          <a:xfrm rot="2869800">
            <a:off x="4268520" y="2545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5935680" y="3059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lution or Denoue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rst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tage is an introduction. The reader is introduced to the setting and the characters. The reader also begins to understand the problem, or conflict, of the stor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this stage, the problem builds. We start to witness events or situations that make the problem grow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st exciting part of the story! The problem reaches its high point. What will happen next? How can the problem be solv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tion is winding down. The problem is on its way to being solve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and final stage of the plot diagra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oblem is wrapped up. Note: this does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mean that there’s a happy ending. It simply means that the problem has been solved – for better or wor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4"/>
          <p:cNvSpPr/>
          <p:nvPr/>
        </p:nvSpPr>
        <p:spPr>
          <a:xfrm>
            <a:off x="609480" y="4495680"/>
            <a:ext cx="137160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Straight Connector 6"/>
          <p:cNvSpPr/>
          <p:nvPr/>
        </p:nvSpPr>
        <p:spPr>
          <a:xfrm flipV="1">
            <a:off x="1981080" y="1905120"/>
            <a:ext cx="2133720" cy="25905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traight Connector 8"/>
          <p:cNvSpPr/>
          <p:nvPr/>
        </p:nvSpPr>
        <p:spPr>
          <a:xfrm>
            <a:off x="4114800" y="1905120"/>
            <a:ext cx="1600200" cy="175248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Straight Connector 10"/>
          <p:cNvSpPr/>
          <p:nvPr/>
        </p:nvSpPr>
        <p:spPr>
          <a:xfrm>
            <a:off x="5715000" y="3657600"/>
            <a:ext cx="1676520" cy="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4572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TextBox 12"/>
          <p:cNvSpPr/>
          <p:nvPr/>
        </p:nvSpPr>
        <p:spPr>
          <a:xfrm rot="18628200">
            <a:off x="2145240" y="2829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31956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Box 14"/>
          <p:cNvSpPr/>
          <p:nvPr/>
        </p:nvSpPr>
        <p:spPr>
          <a:xfrm rot="2869800">
            <a:off x="4268520" y="2545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5935680" y="3059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lution or Denoue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380880" y="4876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parts of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Small as an Elephan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ould fit into each of these stages of plo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2:13:07Z</dcterms:created>
  <dc:creator>Dara</dc:creator>
  <dc:description/>
  <dc:language>en-US</dc:language>
  <cp:lastModifiedBy>dbowling</cp:lastModifiedBy>
  <dcterms:modified xsi:type="dcterms:W3CDTF">2011-11-05T18:46:34Z</dcterms:modified>
  <cp:revision>5</cp:revision>
  <dc:subject/>
  <dc:title>Plot and Theme</dc:title>
</cp:coreProperties>
</file>